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BA777-7971-474F-A4D4-1EAA1C3B6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8D03F-3C54-43B3-95E2-E8165F04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996C8-D1AC-43B1-8EE4-0B5AB1D01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AEA41-D5A5-447E-AD35-D2BB38512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BCFFE-D5F2-4236-93AC-371449F57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B7C80-F9BC-48AD-9378-76443CAAB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12DA7-85A8-4FC1-A5D7-CF3237521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D3CBE-7C20-4251-9D2A-05862E1F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9D674-1234-4DBD-A209-992079EED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D6F5-61C2-4D0A-9835-885AA2257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071D0-05EF-490D-A485-76DE9A519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D375F-7F30-445A-AE56-D52BBCB2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CC468-2B50-46E7-B5F4-9C0656C59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72D75-3DB6-400B-8965-ECB52A40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73E20-E557-4B23-8E37-F4816E91C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DA0A4-4287-4654-963F-9C7DEF91D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96AB7-6A7D-4860-9671-5E7FBC1BF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2CD43-828B-4941-BBF5-6B51B5563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05166-C887-4E60-8E6D-C0BB2A5A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2BCBD-D753-40DB-BB71-E2A66E07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B33E5-B3FD-40F1-917F-1AE52A05C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3F85-7375-49DD-8566-C8AAF4B79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569C-F998-405F-ABA6-390F95F5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D102-3ABB-465F-A683-4D18B64D9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19FF-24BC-4BDF-BBAD-F9C28BB8C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36E1-E9F9-4834-8B85-527C009FDF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mazing Falcon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ar Sotelo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ct Informatio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31F3-8EA2-4FA9-984F-FAED345B0C6B}"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is going to tell the audiences that falcons aren’t bad and that they are amazing. I’m also going to tell them, what they do and where they live, eat, etc. I will prove that falcons are better than hawks. I will blow your mine. (mayb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 explain every detai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Characters and Setting. End with intro of problem/goal.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Solving the problem. End with Climax: the problem gets solv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Happy ever after par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I’ll upload the video on the internet (Youtube). If people see it and like it, the video will go out in the community more. More people watching to more money.</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 It will be special because you might learn more about it. Also because it’s a different bird, not the same boring hawk.  It will be different because I’ll explain how the falcon is better then the haw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42:13Z</dcterms:created>
  <dc:creator/>
  <dc:description/>
  <dc:language>en-US</dc:language>
  <cp:lastModifiedBy>San Diego City Schools</cp:lastModifiedBy>
  <cp:lastPrinted>2009-04-22T19:24:48Z</cp:lastPrinted>
  <dcterms:modified xsi:type="dcterms:W3CDTF">2013-02-20T19:06:28Z</dcterms:modified>
  <cp:revision>48</cp:revision>
  <dc:subject/>
  <dc:title>The Pitch-Then-Plan Business Planning Template</dc:title>
</cp:coreProperties>
</file>